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B41-2EAF-428B-9F24-893CE3E3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etal_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pig/quiz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biology.50megs.com/Fg1511x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89E-1B1B-4FBA-9BAC-72456C44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B2A-AF86-4A7C-B2AF-1915FCAA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900-1483-4F32-9619-A6ADC039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C13-08F2-46A3-9337-65036CF4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3FD-E818-4E25-A9CF-D89542E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7C7-6DCC-451F-A9BB-3A0261B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958-267F-4A0A-A300-BB86F9FA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042-ECBB-4AD2-AB60-C6494D1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4FE-109A-4550-82B1-2BADC84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E9F-0ECF-43A1-A21C-B13D43E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5D0-58D7-4D90-8328-7A82296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953-2289-4543-A681-AEC75C7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55E3-A9BC-469B-B0FA-F26FC752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tal Pig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3C - December 11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71840" y="609480"/>
            <a:ext cx="399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440" y="609480"/>
            <a:ext cx="609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876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76560" y="609480"/>
            <a:ext cx="4790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6640" y="609480"/>
            <a:ext cx="5130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1:23:59Z</dcterms:created>
  <dc:creator>rubina khan</dc:creator>
  <dc:description/>
  <dc:language>en-US</dc:language>
  <cp:lastModifiedBy>rubina khan</cp:lastModifiedBy>
  <dcterms:modified xsi:type="dcterms:W3CDTF">2012-12-17T02:47:46Z</dcterms:modified>
  <cp:revision>6</cp:revision>
  <dc:subject/>
  <dc:title>Fetal Pig Dissection</dc:title>
</cp:coreProperties>
</file>